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892-9B21-4F95-BED1-0D84EFB4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E64-2FBE-4D32-A6E1-89C4779E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0E8-1C5C-4E18-8AA6-FED6014D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3B9-10D6-4E8B-B839-F2DC7768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E7B-0AB3-4687-A1B7-EBF48D87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85A-65A5-4905-924E-17E0A49F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690-0CEF-45AB-B6A1-FBA764A6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C76-56AA-47B5-8DB9-5D9D3637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A00-E8D8-48AB-AAD4-711CA6E7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EAD-F757-475D-839D-6B9AF3BB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47FA-7E90-4A79-83B2-9B1E644C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240-5CAC-41EC-816E-06C8B5C1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E4F2-0E6B-43A3-940A-0CE08E4AF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133720"/>
            <a:ext cx="6840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اسماء خالدة </a:t>
            </a:r>
            <a:br>
              <a:rPr sz="4400"/>
            </a:b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من شرح 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9280" y="4797360"/>
            <a:ext cx="1692360" cy="190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00640" y="450072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62b7be"/>
                </a:solidFill>
                <a:latin typeface="Arial"/>
              </a:rPr>
              <a:t>للشيخ سليمان اللهم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السيده عائشه رضي الله تعالى عنها</a:t>
            </a:r>
            <a:br>
              <a:rPr sz="4400"/>
            </a:br>
            <a:r>
              <a:rPr b="0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سمها</a:t>
            </a:r>
            <a:r>
              <a:rPr b="0" lang="en-US" sz="4000" spc="-1" strike="noStrike">
                <a:solidFill>
                  <a:srgbClr val="cc0099"/>
                </a:solidFill>
                <a:latin typeface="Arial"/>
                <a:ea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ة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بنت ابى بكر الصديق رضى الله عن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ح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النساء الى النبى صلى الله عليه وسلم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تزوجها النبى عليه الصلاه وال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عد وفاه خديجه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رضى الله عن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000" spc="-1" strike="noStrike">
                <a:solidFill>
                  <a:srgbClr val="cc0099"/>
                </a:solidFill>
                <a:latin typeface="Arial"/>
                <a:cs typeface="Arial"/>
              </a:rPr>
              <a:t>حبيبة النبي صلى الله عليه وسل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م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نزل الوحى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على الرسول صلى الله عليه وسلم فى لحاف امرأة سواها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99"/>
                </a:solidFill>
                <a:latin typeface="Arial"/>
                <a:cs typeface="Arial"/>
              </a:rPr>
              <a:t>المبرئه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من فوق سبع سماوا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c0099"/>
                </a:solidFill>
                <a:latin typeface="Arial"/>
                <a:cs typeface="Arial"/>
              </a:rPr>
              <a:t>حبيبه رسول الله صلى الله عليه وسلم</a:t>
            </a:r>
            <a:r>
              <a:rPr b="0" lang="en-US" sz="4800" spc="-1" strike="noStrike">
                <a:solidFill>
                  <a:srgbClr val="cc0099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16000" y="1628640"/>
            <a:ext cx="936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م يتزوج النبى صلى الله عليه وسلم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كر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غير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و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ن من قذفها فهو كافر بإجماع 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cs typeface="Arial"/>
              </a:rPr>
              <a:t>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مه محمد صلى الله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عليه وسلم لأنه مكذب بالقر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سئل النبى صلى الله عليه وسلم "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ى الناس احب اليك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يا رسول الله؟ قال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 :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ه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,</a:t>
            </a:r>
            <a:r>
              <a:rPr b="1" lang="ar-KW" sz="40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ثم قيل من الرجال؟ قال ابوها</a:t>
            </a:r>
            <a:r>
              <a:rPr b="1" lang="ar-KW" sz="3600" spc="-1" strike="noStrike">
                <a:solidFill>
                  <a:srgbClr val="80808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95000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rial"/>
              </a:rPr>
              <a:t>وفاته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صلى الله عليه وسلم" يا عائشه هذا جبريل وهو يقرأ عليك السلام</a:t>
            </a:r>
            <a:r>
              <a:rPr b="1" lang="ar-KW" sz="3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8080"/>
                </a:solidFill>
                <a:latin typeface="Arial"/>
                <a:cs typeface="Arial"/>
              </a:rPr>
              <a:t>وهى من اعلم اهل الارض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ابو موسى " ما اشكل علينا اصحاب محمدصلى الله عليه وسلم حديث ق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فسألنا عائشه الا وجدنا عندها منه علم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اتت رضى الله عنها وارضاها سنه سبع وخمسون وقيل ثمان وخمسو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هذا العمل اعداد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cs typeface="Arial"/>
              </a:rPr>
              <a:t>طالبات دورة شرح </a:t>
            </a:r>
            <a:r>
              <a:rPr b="1" i="1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في ملتقى طالبات ال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2163600">
            <a:off x="394920" y="436536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19591200">
            <a:off x="2268360" y="407628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 rot="2719800">
            <a:off x="4895640" y="432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 rot="18433800">
            <a:off x="6912000" y="3897000"/>
            <a:ext cx="1692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1:20:08Z</dcterms:created>
  <dc:creator> HEART</dc:creator>
  <dc:description/>
  <dc:language>en-US</dc:language>
  <cp:lastModifiedBy> HEART</cp:lastModifiedBy>
  <dcterms:modified xsi:type="dcterms:W3CDTF">2007-07-02T11:29:35Z</dcterms:modified>
  <cp:revision>2</cp:revision>
  <dc:subject/>
  <dc:title>اسماء خالدة  من شرح متن الاربعين النوويه</dc:title>
</cp:coreProperties>
</file>